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315C-1DA8-4CF3-A270-B308BC52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6707-69BA-493C-A826-8EC7E9B4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CDB3-FA56-4EF2-A6B2-98C86AA6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32B1-D7AF-443B-9943-9265BF0A5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32CB-A29C-43FA-869A-52B75008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C8C1-190C-4491-A4DD-07C50A1C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C8BD-2A04-41EB-BE51-CA795203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333D-ECE1-47E3-8EAC-F42E9C8B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F766-22C4-4848-8455-B166A091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BA71-23DB-4BDA-ACC3-ED6AA7F7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6BE6-2FC9-491C-9DCF-3CD30FFD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C20D-A89A-439A-95CC-CB3A80CE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B1B9-20D5-40A6-B21E-83EE1CB0E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odic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. JULIAN KEVIN AND DIL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n family me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59280" y="1628640"/>
            <a:ext cx="5616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number is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mass 12.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number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mass 28.0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rman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number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 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mass 72.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German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number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 S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mass 118.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number 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 P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mass 207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l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V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LL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44:19Z</dcterms:created>
  <dc:creator>tatumadmin</dc:creator>
  <dc:description/>
  <dc:language>en-US</dc:language>
  <cp:lastModifiedBy>tatumadmin</cp:lastModifiedBy>
  <dcterms:modified xsi:type="dcterms:W3CDTF">2009-12-04T21:21:05Z</dcterms:modified>
  <cp:revision>2</cp:revision>
  <dc:subject/>
  <dc:title>Periodic project</dc:title>
</cp:coreProperties>
</file>